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9680" y="767880"/>
            <a:ext cx="68198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BAF5-BC41-47A7-B196-ED7AC332EF7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A554-8C7A-4A15-BB15-DDF6742E8E76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EDBF-458A-41FD-9C25-4658ADBEF7FE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FB92-10A0-417F-A8AC-3020BB480BF2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33E8-C8FB-4BBD-98EA-174EED13A478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1A16-2BA9-4E1A-B6EA-0673545C7282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59B8-DD81-4F99-8BD5-DB8A0CC6351E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BCD9-EFB2-4B80-9747-FA602675B5F5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3CBC-BCB2-48F9-8229-AA9C7D481527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4A9E-A6DF-4207-9C77-B1D7F0009E6F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5C13-EDA9-43D3-8AAA-9872AC011527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9AC-30A8-4B6C-B6A9-3C57B6F9FB20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C3F-A4BF-4782-A719-D27E9002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A3F-6399-4226-9FA5-5D32F1F0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C6F-4D48-4A8F-ABDF-BBCAC0CE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8E5-CD58-4E51-AB84-3BE4DDFD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6A40-8E84-4420-90BE-CBFD0941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63C6-0BD2-4FDE-90B9-AE850509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4435-2349-4693-AA87-C4BC409A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9513-353A-4574-9563-9F2CB9EC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9B00-653F-4831-A43D-C49C60F9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221E-0DF0-45E5-9F65-51056C63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FFF1-707B-42B1-A9A1-A7F6E92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40A-1C26-4213-B629-F2235939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5B9E-CADA-4C9B-A5C2-84665D07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78B9-A5EE-4B4E-BD72-978F8DCF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ED16-AA2B-4606-834E-FE346001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E303-9737-4527-9634-2A768000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461D-BFF4-43A1-81D9-69D70D10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29C-7F90-4F5B-898B-2E41BA40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1318-F70D-457B-98C8-5B9ABA05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9A67-0D2C-400C-B03A-C5B40A7C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3955-80EC-4D4C-BB17-79A52E20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780-0F48-4E2B-ACAF-ADB1ECD2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3F8B8-6EE4-4F0C-8A92-EF66807C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0E1CD-2B98-46C6-AA14-26134627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ECB5-7590-41AA-833E-492C9F83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CB57-F904-45DB-9353-9FD79A9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0211-F6D2-46B5-85C9-EFF1DA45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5CA1-EFEB-455F-AE61-F569A99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EF9B-1AF6-47C6-A9F3-F033EA37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0AC2-DA3B-42BB-B95D-FA24E2BB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2675-0433-4AB0-9E18-F0863D81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379-9239-4465-9AFE-29474E08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A85-53C1-4FFE-8B2E-FCDC69CE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5E5-94EA-4AFE-97AB-B89D1B09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412-B48B-4B35-B52E-FF1D8B82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E78-5554-408F-AF43-520B5AA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CB7F-0629-49D6-BFD2-A89AD4C7A886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6" descr=""/>
          <p:cNvPicPr/>
          <p:nvPr/>
        </p:nvPicPr>
        <p:blipFill>
          <a:blip r:embed="rId2"/>
          <a:srcRect l="13520" t="12095" r="36107" b="20666"/>
          <a:stretch/>
        </p:blipFill>
        <p:spPr>
          <a:xfrm>
            <a:off x="0" y="0"/>
            <a:ext cx="1219032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B211-7024-4EC9-9EE2-B8C0A3EAEA16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ek 6" descr=""/>
          <p:cNvPicPr/>
          <p:nvPr/>
        </p:nvPicPr>
        <p:blipFill>
          <a:blip r:embed="rId2"/>
          <a:srcRect l="1154" t="40624" r="1496" b="20394"/>
          <a:stretch/>
        </p:blipFill>
        <p:spPr>
          <a:xfrm>
            <a:off x="0" y="6093000"/>
            <a:ext cx="1219212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6" descr=""/>
          <p:cNvPicPr/>
          <p:nvPr/>
        </p:nvPicPr>
        <p:blipFill>
          <a:blip r:embed="rId2"/>
          <a:srcRect l="0" t="40624" r="1496" b="20394"/>
          <a:stretch/>
        </p:blipFill>
        <p:spPr>
          <a:xfrm>
            <a:off x="0" y="5919840"/>
            <a:ext cx="12192120" cy="965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2FC7-752B-498A-8FBC-A20CF46599AC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etivdoprave.cz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ondzabranyskod.cz/" TargetMode="External"/><Relationship Id="rId2" Type="http://schemas.openxmlformats.org/officeDocument/2006/relationships/hyperlink" Target="https://www.dopravnivychova.cz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ovéPole 6"/>
          <p:cNvSpPr/>
          <p:nvPr/>
        </p:nvSpPr>
        <p:spPr>
          <a:xfrm>
            <a:off x="1200240" y="1785960"/>
            <a:ext cx="9198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Metodika implementace opatření stanovených místní strategií do pra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 </a:t>
            </a: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ÚČASTNÍCI SILNIČNÍHO PROVO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498600" y="4226040"/>
            <a:ext cx="58323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7dc1"/>
                </a:solidFill>
                <a:latin typeface="Myriad Pro"/>
                <a:ea typeface="Arial"/>
              </a:rPr>
              <a:t>Ing. Alena Daňková,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ázek 1" descr=""/>
          <p:cNvPicPr/>
          <p:nvPr/>
        </p:nvPicPr>
        <p:blipFill>
          <a:blip r:embed="rId1"/>
          <a:stretch/>
        </p:blipFill>
        <p:spPr>
          <a:xfrm>
            <a:off x="263520" y="257040"/>
            <a:ext cx="3651120" cy="941400"/>
          </a:xfrm>
          <a:prstGeom prst="rect">
            <a:avLst/>
          </a:prstGeom>
          <a:ln w="0">
            <a:noFill/>
          </a:ln>
        </p:spPr>
      </p:pic>
      <p:pic>
        <p:nvPicPr>
          <p:cNvPr id="174" name="Obrázek 2" descr=""/>
          <p:cNvPicPr/>
          <p:nvPr/>
        </p:nvPicPr>
        <p:blipFill>
          <a:blip r:embed="rId2"/>
          <a:stretch/>
        </p:blipFill>
        <p:spPr>
          <a:xfrm>
            <a:off x="5016600" y="6165720"/>
            <a:ext cx="1895400" cy="465120"/>
          </a:xfrm>
          <a:prstGeom prst="rect">
            <a:avLst/>
          </a:prstGeom>
          <a:ln w="0">
            <a:noFill/>
          </a:ln>
        </p:spPr>
      </p:pic>
      <p:pic>
        <p:nvPicPr>
          <p:cNvPr id="175" name="Obrázek 5" descr="Obsah obrázku text, podepsat, lékárnička, indikátor&#10;&#10;Popis byl vytvořen automaticky"/>
          <p:cNvPicPr/>
          <p:nvPr/>
        </p:nvPicPr>
        <p:blipFill>
          <a:blip r:embed="rId3"/>
          <a:stretch/>
        </p:blipFill>
        <p:spPr>
          <a:xfrm>
            <a:off x="10895040" y="217440"/>
            <a:ext cx="941400" cy="9414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8"/>
          <p:cNvSpPr/>
          <p:nvPr/>
        </p:nvSpPr>
        <p:spPr>
          <a:xfrm>
            <a:off x="498600" y="5452920"/>
            <a:ext cx="8076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Tento workshop je pořádán se státní podporou Technologické agentury ČR v rámci Programu ÉT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2"/>
          <p:cNvSpPr/>
          <p:nvPr/>
        </p:nvSpPr>
        <p:spPr>
          <a:xfrm>
            <a:off x="468360" y="48420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C. Shr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ovéPole 1"/>
          <p:cNvSpPr/>
          <p:nvPr/>
        </p:nvSpPr>
        <p:spPr>
          <a:xfrm>
            <a:off x="446040" y="1130400"/>
            <a:ext cx="69454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plnění cílů Strategie BESIP měst –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pojení kompetentních a zainteresovaných subjektů do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světlení důležitosti a smyslu aktivit v AP těmto subjektů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ležitost systémového vzdělávání – oblast dopravní výcho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žití dostupných již zpracovaných informací a výsledků kampa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aní finančních prostředků na realizaci aktiv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Obrázek 6" descr=""/>
          <p:cNvPicPr/>
          <p:nvPr/>
        </p:nvPicPr>
        <p:blipFill>
          <a:blip r:embed="rId1"/>
          <a:srcRect l="0" t="0" r="0" b="63781"/>
          <a:stretch/>
        </p:blipFill>
        <p:spPr>
          <a:xfrm>
            <a:off x="7535880" y="1989000"/>
            <a:ext cx="4454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Nadpis 1"/>
          <p:cNvSpPr/>
          <p:nvPr/>
        </p:nvSpPr>
        <p:spPr>
          <a:xfrm>
            <a:off x="1992240" y="2846520"/>
            <a:ext cx="799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Děkuji Vám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ovéPole 6"/>
          <p:cNvSpPr/>
          <p:nvPr/>
        </p:nvSpPr>
        <p:spPr>
          <a:xfrm>
            <a:off x="318960" y="3879720"/>
            <a:ext cx="79153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7dc1"/>
                </a:solidFill>
                <a:latin typeface="Myriad Pro"/>
                <a:ea typeface="Arial"/>
              </a:rPr>
              <a:t>Alena Daň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alena.dankova@cdv.cz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telefon: +420 602 363 8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Obdélník 7"/>
          <p:cNvSpPr/>
          <p:nvPr/>
        </p:nvSpPr>
        <p:spPr>
          <a:xfrm>
            <a:off x="318960" y="5373720"/>
            <a:ext cx="3810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Líšeňská 33a, 636 00  B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1"/>
          <a:stretch/>
        </p:blipFill>
        <p:spPr>
          <a:xfrm>
            <a:off x="241200" y="403200"/>
            <a:ext cx="3345120" cy="865080"/>
          </a:xfrm>
          <a:prstGeom prst="rect">
            <a:avLst/>
          </a:prstGeom>
          <a:ln w="0">
            <a:noFill/>
          </a:ln>
        </p:spPr>
      </p:pic>
      <p:pic>
        <p:nvPicPr>
          <p:cNvPr id="226" name="Obrázek 1" descr=""/>
          <p:cNvPicPr/>
          <p:nvPr/>
        </p:nvPicPr>
        <p:blipFill>
          <a:blip r:embed="rId2"/>
          <a:stretch/>
        </p:blipFill>
        <p:spPr>
          <a:xfrm>
            <a:off x="1084896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8"/>
          <p:cNvSpPr/>
          <p:nvPr/>
        </p:nvSpPr>
        <p:spPr>
          <a:xfrm>
            <a:off x="1992240" y="1413000"/>
            <a:ext cx="791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Calibri"/>
              </a:rPr>
              <a:t>Tento workshop je pořádán se státní podporou Technologické agentury ČR v rámci Programu ÉTA, projektu Strategické plánování bezpečnosti silničního provozu ve městech a jeho zavádění do praxe (TL0200029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2"/>
          <p:cNvSpPr/>
          <p:nvPr/>
        </p:nvSpPr>
        <p:spPr>
          <a:xfrm>
            <a:off x="550800" y="476280"/>
            <a:ext cx="11641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a79bd"/>
                </a:solidFill>
                <a:latin typeface="Myriad Pro"/>
                <a:ea typeface="Arial"/>
              </a:rPr>
              <a:t>OPATŘENÍ SE ZAMĚŘENÍM NA ÚČASTNÍKY SILNIČNÍHO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2"/>
          <p:cNvSpPr/>
          <p:nvPr/>
        </p:nvSpPr>
        <p:spPr>
          <a:xfrm>
            <a:off x="509760" y="2050920"/>
            <a:ext cx="7704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Účastníci silničního provozu – jeden ze strategických pilířů plnění AP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ranitelní účastníci – děti, senioři, chodci, cyklisté, motocyklis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Realizace preventivních a osvětových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apojení interesovaných subjekt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Financování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3742e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Myriad Pro"/>
                <a:ea typeface="Arial"/>
              </a:rPr>
              <a:t>Důležitost systémového vzdělávání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2" descr=""/>
          <p:cNvPicPr/>
          <p:nvPr/>
        </p:nvPicPr>
        <p:blipFill>
          <a:blip r:embed="rId1"/>
          <a:stretch/>
        </p:blipFill>
        <p:spPr>
          <a:xfrm>
            <a:off x="8183520" y="1341360"/>
            <a:ext cx="2959200" cy="401004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9"/>
          <p:cNvSpPr/>
          <p:nvPr/>
        </p:nvSpPr>
        <p:spPr>
          <a:xfrm>
            <a:off x="846000" y="1341360"/>
            <a:ext cx="697068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</a:rPr>
              <a:t>NAPLNĚNÍ CÍLŮ STRATEGIE BESIP MĚST – REALIZACE 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839880" y="62064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1"/>
          <p:cNvSpPr/>
          <p:nvPr/>
        </p:nvSpPr>
        <p:spPr>
          <a:xfrm>
            <a:off x="1703520" y="1292400"/>
            <a:ext cx="410508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členění DV do vzděláv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ystémové vzdělávání od MŠ až po V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839880" y="2103480"/>
            <a:ext cx="71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škol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Výuka DV v MŠ – oblast bezpečného pohybu dětí, základní orientace v provo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klad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uka DV v ZŠ (1. a 2. stupe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raktická výuka na dopravních hřiští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středních škol a gymnáz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Oblast získání „prvního řidičského průkazu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vysokých š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Vzdělávání budoucích pedagogů (oblast bezpečného pohybu dětí a organizovaného útvaru chodc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Obrázek 6" descr=""/>
          <p:cNvPicPr/>
          <p:nvPr/>
        </p:nvPicPr>
        <p:blipFill>
          <a:blip r:embed="rId1"/>
          <a:stretch/>
        </p:blipFill>
        <p:spPr>
          <a:xfrm>
            <a:off x="7680240" y="595440"/>
            <a:ext cx="2035440" cy="3139920"/>
          </a:xfrm>
          <a:prstGeom prst="rect">
            <a:avLst/>
          </a:prstGeom>
          <a:ln w="0">
            <a:noFill/>
          </a:ln>
        </p:spPr>
      </p:pic>
      <p:pic>
        <p:nvPicPr>
          <p:cNvPr id="187" name="Obrázek 8" descr=""/>
          <p:cNvPicPr/>
          <p:nvPr/>
        </p:nvPicPr>
        <p:blipFill>
          <a:blip r:embed="rId2"/>
          <a:stretch/>
        </p:blipFill>
        <p:spPr>
          <a:xfrm>
            <a:off x="10056960" y="644400"/>
            <a:ext cx="1974600" cy="3090960"/>
          </a:xfrm>
          <a:prstGeom prst="rect">
            <a:avLst/>
          </a:prstGeom>
          <a:ln w="0">
            <a:noFill/>
          </a:ln>
        </p:spPr>
      </p:pic>
      <p:pic>
        <p:nvPicPr>
          <p:cNvPr id="188" name="Obrázek 10" descr=""/>
          <p:cNvPicPr/>
          <p:nvPr/>
        </p:nvPicPr>
        <p:blipFill>
          <a:blip r:embed="rId3"/>
          <a:stretch/>
        </p:blipFill>
        <p:spPr>
          <a:xfrm>
            <a:off x="8350200" y="3843360"/>
            <a:ext cx="3030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704880" y="3556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rázek 5" descr=""/>
          <p:cNvPicPr/>
          <p:nvPr/>
        </p:nvPicPr>
        <p:blipFill>
          <a:blip r:embed="rId1"/>
          <a:stretch/>
        </p:blipFill>
        <p:spPr>
          <a:xfrm>
            <a:off x="3911760" y="2924280"/>
            <a:ext cx="200808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66800" y="944640"/>
            <a:ext cx="10298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Calibri"/>
              </a:rPr>
              <a:t>Možné materiály k využit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etodika dopravní výchovy pro mateřské 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racovní listy pro mateřské školy zpracované v rámci projektu „Markétina dopravní výchova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Brožura – Organizovaná skupina dětí, pohyb v dopravním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opravní výchova pro 1. stupeň ZŠ, Učitelská licence (Nakladatelství Frau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ýukový materiál DV pro S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ázorné videospo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374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detivdoprave.cz</a:t>
            </a: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ibesip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dopravnivychov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rázek 3" descr=""/>
          <p:cNvPicPr/>
          <p:nvPr/>
        </p:nvPicPr>
        <p:blipFill>
          <a:blip r:embed="rId3"/>
          <a:stretch/>
        </p:blipFill>
        <p:spPr>
          <a:xfrm>
            <a:off x="4308480" y="5210280"/>
            <a:ext cx="2448000" cy="657000"/>
          </a:xfrm>
          <a:prstGeom prst="rect">
            <a:avLst/>
          </a:prstGeom>
          <a:ln w="0">
            <a:noFill/>
          </a:ln>
        </p:spPr>
      </p:pic>
      <p:pic>
        <p:nvPicPr>
          <p:cNvPr id="194" name="Obrázek 6" descr=""/>
          <p:cNvPicPr/>
          <p:nvPr/>
        </p:nvPicPr>
        <p:blipFill>
          <a:blip r:embed="rId4"/>
          <a:stretch/>
        </p:blipFill>
        <p:spPr>
          <a:xfrm>
            <a:off x="4917960" y="4341960"/>
            <a:ext cx="2390760" cy="35244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8" descr=""/>
          <p:cNvPicPr/>
          <p:nvPr/>
        </p:nvPicPr>
        <p:blipFill>
          <a:blip r:embed="rId5"/>
          <a:stretch/>
        </p:blipFill>
        <p:spPr>
          <a:xfrm>
            <a:off x="3867120" y="4098960"/>
            <a:ext cx="944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ovéPole 2"/>
          <p:cNvSpPr/>
          <p:nvPr/>
        </p:nvSpPr>
        <p:spPr>
          <a:xfrm>
            <a:off x="479520" y="549360"/>
            <a:ext cx="1036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Ministerstvo dopravy – SO BESIP    </a:t>
            </a:r>
            <a:r>
              <a:rPr b="1" lang="cs-CZ" sz="2800" spc="-1" strike="noStrike">
                <a:solidFill>
                  <a:srgbClr val="f3742e"/>
                </a:solidFill>
                <a:latin typeface="Myriad Pro"/>
                <a:ea typeface="Arial"/>
              </a:rPr>
              <a:t>https://www.ibesip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rázek 4" descr=""/>
          <p:cNvPicPr/>
          <p:nvPr/>
        </p:nvPicPr>
        <p:blipFill>
          <a:blip r:embed="rId1"/>
          <a:stretch/>
        </p:blipFill>
        <p:spPr>
          <a:xfrm>
            <a:off x="10368000" y="25092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1"/>
          <p:cNvSpPr/>
          <p:nvPr/>
        </p:nvSpPr>
        <p:spPr>
          <a:xfrm>
            <a:off x="638280" y="1886040"/>
            <a:ext cx="1022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Realizace řady kampaní a preventivních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13 minut – Zpomal, dokud není pozd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pozornost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nech se ovliv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Agresivita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Soutěž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oročně, pro žáky 10 – 16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Krajští koordinátoři BES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dopravně-bezpečnostních akcí (ve školách, na dopravních hřištích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e materiálů DV (metodické materiály, reflexní prvk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Obrázek 3" descr=""/>
          <p:cNvPicPr/>
          <p:nvPr/>
        </p:nvPicPr>
        <p:blipFill>
          <a:blip r:embed="rId2"/>
          <a:stretch/>
        </p:blipFill>
        <p:spPr>
          <a:xfrm>
            <a:off x="5734080" y="1947960"/>
            <a:ext cx="3097080" cy="1251000"/>
          </a:xfrm>
          <a:prstGeom prst="rect">
            <a:avLst/>
          </a:prstGeom>
          <a:ln w="0">
            <a:noFill/>
          </a:ln>
        </p:spPr>
      </p:pic>
      <p:pic>
        <p:nvPicPr>
          <p:cNvPr id="201" name="Obrázek 7" descr=""/>
          <p:cNvPicPr/>
          <p:nvPr/>
        </p:nvPicPr>
        <p:blipFill>
          <a:blip r:embed="rId3"/>
          <a:stretch/>
        </p:blipFill>
        <p:spPr>
          <a:xfrm>
            <a:off x="7751880" y="2509920"/>
            <a:ext cx="3504960" cy="1181160"/>
          </a:xfrm>
          <a:prstGeom prst="rect">
            <a:avLst/>
          </a:prstGeom>
          <a:ln w="0">
            <a:noFill/>
          </a:ln>
        </p:spPr>
      </p:pic>
      <p:pic>
        <p:nvPicPr>
          <p:cNvPr id="202" name="Obrázek 9" descr=""/>
          <p:cNvPicPr/>
          <p:nvPr/>
        </p:nvPicPr>
        <p:blipFill>
          <a:blip r:embed="rId4"/>
          <a:stretch/>
        </p:blipFill>
        <p:spPr>
          <a:xfrm>
            <a:off x="7012080" y="3757680"/>
            <a:ext cx="36399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ovéPole 2"/>
          <p:cNvSpPr/>
          <p:nvPr/>
        </p:nvSpPr>
        <p:spPr>
          <a:xfrm>
            <a:off x="461880" y="485640"/>
            <a:ext cx="1006488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ond zábrany škod 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Myriad Pro"/>
                <a:ea typeface="Arial"/>
                <a:hlinkClick r:id="rId1"/>
              </a:rPr>
              <a:t>https://www.fondzabranyskod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1055520" y="1503360"/>
            <a:ext cx="1022508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arkétina dopravní výchova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s://www.dopravnivychov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ětská dopravní policie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decko.ceskatelevize.cz/detska-dopravni-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hodou to začíná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hodoutozacin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Senior bez nehod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seniorbeznehod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gresivita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agresivita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pozornost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pozornost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Jedu s do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jedusdo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Učme se přežít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ucmeseprezit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a kole jen s přil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akolejenspril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5" descr=""/>
          <p:cNvPicPr/>
          <p:nvPr/>
        </p:nvPicPr>
        <p:blipFill>
          <a:blip r:embed="rId3"/>
          <a:stretch/>
        </p:blipFill>
        <p:spPr>
          <a:xfrm>
            <a:off x="9624960" y="566640"/>
            <a:ext cx="2104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766800" y="1008000"/>
            <a:ext cx="93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D. Krajské úř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ajské školské odbory – školní metodik prevence – informace o aktivitách v daném kra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bové stránky jednotlivých kr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E. Komise BESIP mě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řízení Komise BESIP měst – koordinace dopravně-bezpečnostních aktiv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F. Městská 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hled nad dodržováním pravidel sil. provozu (v okolí škol, rychlost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místění a správa r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tivní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ojení do DV (dopravní hřiště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G. Dobrovolné spol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my dětí a mláde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rtovní kl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ervený kří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ovéPole 2"/>
          <p:cNvSpPr/>
          <p:nvPr/>
        </p:nvSpPr>
        <p:spPr>
          <a:xfrm>
            <a:off x="550800" y="33804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ovéPole 2"/>
          <p:cNvSpPr/>
          <p:nvPr/>
        </p:nvSpPr>
        <p:spPr>
          <a:xfrm>
            <a:off x="760320" y="4762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760320" y="1268280"/>
            <a:ext cx="925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Dotační tituly MŠ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s://www.msmt.cz/dotacni-program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Oblast vzděláv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Krajské dotační progra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reventivní, informační, vzdělávací a volnočasové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ranitelní účastní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pravní hřiš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kol soutěže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ax. výše dotace cca 50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FZ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ý rok možné podat žádosti na realizaci projektů zaměřených na naplnění cílů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finance"/>
          <p:cNvPicPr/>
          <p:nvPr/>
        </p:nvPicPr>
        <p:blipFill>
          <a:blip r:embed="rId1"/>
          <a:stretch/>
        </p:blipFill>
        <p:spPr>
          <a:xfrm>
            <a:off x="8543880" y="455760"/>
            <a:ext cx="248760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ovéPole 2"/>
          <p:cNvSpPr/>
          <p:nvPr/>
        </p:nvSpPr>
        <p:spPr>
          <a:xfrm>
            <a:off x="479520" y="6904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ovéPole 4"/>
          <p:cNvSpPr/>
          <p:nvPr/>
        </p:nvSpPr>
        <p:spPr>
          <a:xfrm>
            <a:off x="695160" y="1413000"/>
            <a:ext cx="6094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Rozpočty měst a ob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římé i nepřímé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financování dotačních projek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Soukromý sektor, pojišťov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Finanční, materiální, personální podp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př. zapůjčení prostor, polygonu, personální podpora při konání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ČESMAD BOHEMIA, ÚAMK, ŠKODA AUTO ČR, a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inance"/>
          <p:cNvPicPr/>
          <p:nvPr/>
        </p:nvPicPr>
        <p:blipFill>
          <a:blip r:embed="rId1"/>
          <a:stretch/>
        </p:blipFill>
        <p:spPr>
          <a:xfrm>
            <a:off x="8399520" y="679320"/>
            <a:ext cx="2487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Alena Daňková</cp:lastModifiedBy>
  <cp:lastPrinted>2016-01-19T14:43:33Z</cp:lastPrinted>
  <dcterms:modified xsi:type="dcterms:W3CDTF">2021-10-27T14:41:19Z</dcterms:modified>
  <cp:revision>255</cp:revision>
  <dc:subject/>
  <dc:title>Prezentace aplikace PowerPoint</dc:title>
</cp:coreProperties>
</file>