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21.png" ContentType="image/png"/>
  <Override PartName="/ppt/media/image4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12193588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0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39680" y="767880"/>
            <a:ext cx="681984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1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2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BCC69-9CC9-450E-BAD0-C18202258C01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39680" y="768240"/>
            <a:ext cx="6819840" cy="38372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Zástupný symbol pro číslo snímku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B75E0-1326-4AAE-BB42-EF7388B36A43}" type="slidenum">
              <a:rPr b="0" lang="cs-C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39680" y="768240"/>
            <a:ext cx="6819840" cy="38372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Zástupný symbol pro číslo snímku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648BE-B293-4451-80E2-1F0681916CE8}" type="slidenum">
              <a:rPr b="0" lang="cs-C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39680" y="768240"/>
            <a:ext cx="6819840" cy="38372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Zástupný symbol pro číslo snímku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CAE7F-18E4-4E56-8126-86F8BFE507A7}" type="slidenum">
              <a:rPr b="0" lang="cs-C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39680" y="768240"/>
            <a:ext cx="6819840" cy="38372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Zástupný symbol pro číslo snímku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19FA9-CF31-40D8-93FD-0422C776CE4D}" type="slidenum">
              <a:rPr b="0" lang="cs-C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39680" y="768240"/>
            <a:ext cx="6819840" cy="38372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Zástupný symbol pro číslo snímku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4D1DC-E051-410D-87B4-7EDFC1B577DB}" type="slidenum">
              <a:rPr b="0" lang="cs-C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39680" y="768240"/>
            <a:ext cx="6819840" cy="38372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Zástupný symbol pro číslo snímku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AC558-D1CE-40F9-8B1E-EA304837BECF}" type="slidenum">
              <a:rPr b="0" lang="cs-C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39680" y="768240"/>
            <a:ext cx="6819840" cy="38372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Zástupný symbol pro číslo snímku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60FAD-C08F-4A14-A425-179A10E1AE80}" type="slidenum">
              <a:rPr b="0" lang="cs-C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39680" y="768240"/>
            <a:ext cx="6819840" cy="38372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Zástupný symbol pro číslo snímku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1EA09-E566-4F06-94E5-33E90985605A}" type="slidenum">
              <a:rPr b="0" lang="cs-C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39680" y="768240"/>
            <a:ext cx="6819840" cy="38372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Zástupný symbol pro číslo snímku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26518-118C-43D1-BEF5-6366752723DF}" type="slidenum">
              <a:rPr b="0" lang="cs-C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39680" y="768240"/>
            <a:ext cx="6819840" cy="38372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Zástupný symbol pro číslo snímku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291DB-62F4-40B7-ABE7-93C0B853C94F}" type="slidenum">
              <a:rPr b="0" lang="cs-C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39680" y="768240"/>
            <a:ext cx="6819840" cy="38372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Zástupný symbol pro číslo snímku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3B726-9E04-49B7-BF32-25F3A5B0961D}" type="slidenum">
              <a:rPr b="0" lang="cs-C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3108-4AA8-4E5C-82EE-398FB27AC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9F1F-0C67-4075-8C63-D27CA41D8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BF2E-F14F-4B70-911E-AFE375B51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3335-D61F-4B23-A2A3-A7A3E217B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1AAA8-1BE4-4BA1-A6C6-C5FCF244D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7814D-49D0-4509-8884-CD356F5FF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6BAD1-082C-4B05-95B4-851537115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961DA-D8A8-429B-B3CF-5F578F1A3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34CC0-6244-413D-82AA-0EDCAEC25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73A9F-99AE-4537-A9C1-626D4B6F5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84133-91FD-4E5A-A18A-B7F207EAF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145B-E285-4F92-B815-F254C6D70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411AB-9FE3-45E2-9169-DFC1AFB90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ABFC6-B978-4400-80EE-E90862FFF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70D7F-20DC-4F2C-9829-8FCBC45A5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303AE-0A12-4D14-BCBF-768819654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BEE6B-923F-404A-9190-1A39EEF16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6F36-DF44-46EF-93E7-BF8911D23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C3887-8674-4E85-971A-250DC650F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2E375-827D-4022-AD71-751C94BD2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E31CD-ACDD-4205-ABBB-AAF6E7E9C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F242-4930-4173-85FF-95B2F8556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5BA8F-0B62-4762-BB8B-FBE5B9D0F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02118-80EC-4670-9B62-B4C035028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E265F-8D03-4A85-8543-4AD742DD5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F4997-F04D-468C-AE9A-1B85F563C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0540A-C4A4-458F-8E60-3BD9486ED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AF071-FF9A-405A-9344-51F968BA1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B4D88-6231-408C-BF2B-06CFC7A92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4D4AD-1988-4681-928D-43D6518B8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B4448-07B5-4A93-AAF3-BF02DE5EB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A54C-9DAE-4DE5-978D-A0D4CFDD4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77B6-B408-41D6-8A9A-B22D7842B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BDD7-9CDB-4058-945B-F763C52C4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BC68-38A8-4EFF-A239-C27C5A48F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C966-7A51-473B-B3F6-01193818D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A61E4-84AE-4D0F-90E6-F0A1E640922C}" type="slidenum"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ek 6" descr=""/>
          <p:cNvPicPr/>
          <p:nvPr/>
        </p:nvPicPr>
        <p:blipFill>
          <a:blip r:embed="rId2"/>
          <a:srcRect l="13520" t="12095" r="36107" b="20666"/>
          <a:stretch/>
        </p:blipFill>
        <p:spPr>
          <a:xfrm>
            <a:off x="0" y="0"/>
            <a:ext cx="12190320" cy="6864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228A7-7CA0-4E04-9E3F-CA6611B70CBF}" type="slidenum"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Obrázek 6" descr=""/>
          <p:cNvPicPr/>
          <p:nvPr/>
        </p:nvPicPr>
        <p:blipFill>
          <a:blip r:embed="rId2"/>
          <a:srcRect l="1154" t="40624" r="1496" b="20394"/>
          <a:stretch/>
        </p:blipFill>
        <p:spPr>
          <a:xfrm>
            <a:off x="0" y="6093000"/>
            <a:ext cx="12192120" cy="792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Obrázek 6" descr=""/>
          <p:cNvPicPr/>
          <p:nvPr/>
        </p:nvPicPr>
        <p:blipFill>
          <a:blip r:embed="rId2"/>
          <a:srcRect l="0" t="40624" r="1496" b="20394"/>
          <a:stretch/>
        </p:blipFill>
        <p:spPr>
          <a:xfrm>
            <a:off x="0" y="5919840"/>
            <a:ext cx="12192120" cy="96516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7"/>
          </p:nvPr>
        </p:nvSpPr>
        <p:spPr>
          <a:xfrm>
            <a:off x="609120" y="6356520"/>
            <a:ext cx="28450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8"/>
          </p:nvPr>
        </p:nvSpPr>
        <p:spPr>
          <a:xfrm>
            <a:off x="4165200" y="6356520"/>
            <a:ext cx="386100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9"/>
          </p:nvPr>
        </p:nvSpPr>
        <p:spPr>
          <a:xfrm>
            <a:off x="8737560" y="6356520"/>
            <a:ext cx="2844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EED15-B32A-4487-AA46-491601D3C714}" type="slidenum"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detivdoprave.cz/" TargetMode="External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www.fondzabranyskod.cz/" TargetMode="External"/><Relationship Id="rId2" Type="http://schemas.openxmlformats.org/officeDocument/2006/relationships/hyperlink" Target="https://www.dopravnivychova.cz/" TargetMode="External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ovéPole 6"/>
          <p:cNvSpPr/>
          <p:nvPr/>
        </p:nvSpPr>
        <p:spPr>
          <a:xfrm>
            <a:off x="1200240" y="1785960"/>
            <a:ext cx="9198000" cy="20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4c85"/>
                </a:solidFill>
                <a:latin typeface="Myriad Pro"/>
                <a:ea typeface="Arial"/>
              </a:rPr>
              <a:t>Metodika implementace opatření stanovených místní strategií do prax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4c85"/>
                </a:solidFill>
                <a:latin typeface="Myriad Pro"/>
                <a:ea typeface="Arial"/>
              </a:rPr>
              <a:t> </a:t>
            </a:r>
            <a:r>
              <a:rPr b="1" lang="cs-CZ" sz="3200" spc="-1" strike="noStrike">
                <a:solidFill>
                  <a:srgbClr val="0e4c85"/>
                </a:solidFill>
                <a:latin typeface="Myriad Pro"/>
                <a:ea typeface="Arial"/>
              </a:rPr>
              <a:t>ÚČASTNÍCI SILNIČNÍHO PROVOZ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ovéPole 7"/>
          <p:cNvSpPr/>
          <p:nvPr/>
        </p:nvSpPr>
        <p:spPr>
          <a:xfrm>
            <a:off x="498600" y="4226040"/>
            <a:ext cx="583236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7dc1"/>
                </a:solidFill>
                <a:latin typeface="Myriad Pro"/>
                <a:ea typeface="Arial"/>
              </a:rPr>
              <a:t>Ing. Alena Daňková, Ph.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84c4c"/>
                </a:solidFill>
                <a:latin typeface="Myriad Pro"/>
                <a:ea typeface="Arial"/>
              </a:rPr>
              <a:t>Centrum dopravního výzkumu, v. v. 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Obrázek 1" descr=""/>
          <p:cNvPicPr/>
          <p:nvPr/>
        </p:nvPicPr>
        <p:blipFill>
          <a:blip r:embed="rId1"/>
          <a:stretch/>
        </p:blipFill>
        <p:spPr>
          <a:xfrm>
            <a:off x="263520" y="257040"/>
            <a:ext cx="3651120" cy="941400"/>
          </a:xfrm>
          <a:prstGeom prst="rect">
            <a:avLst/>
          </a:prstGeom>
          <a:ln w="0">
            <a:noFill/>
          </a:ln>
        </p:spPr>
      </p:pic>
      <p:pic>
        <p:nvPicPr>
          <p:cNvPr id="174" name="Obrázek 2" descr=""/>
          <p:cNvPicPr/>
          <p:nvPr/>
        </p:nvPicPr>
        <p:blipFill>
          <a:blip r:embed="rId2"/>
          <a:stretch/>
        </p:blipFill>
        <p:spPr>
          <a:xfrm>
            <a:off x="5016600" y="6165720"/>
            <a:ext cx="1895400" cy="465120"/>
          </a:xfrm>
          <a:prstGeom prst="rect">
            <a:avLst/>
          </a:prstGeom>
          <a:ln w="0">
            <a:noFill/>
          </a:ln>
        </p:spPr>
      </p:pic>
      <p:pic>
        <p:nvPicPr>
          <p:cNvPr id="175" name="Obrázek 5" descr="Obsah obrázku text, podepsat, lékárnička, indikátor&#10;&#10;Popis byl vytvořen automaticky"/>
          <p:cNvPicPr/>
          <p:nvPr/>
        </p:nvPicPr>
        <p:blipFill>
          <a:blip r:embed="rId3"/>
          <a:stretch/>
        </p:blipFill>
        <p:spPr>
          <a:xfrm>
            <a:off x="10895040" y="217440"/>
            <a:ext cx="941400" cy="941400"/>
          </a:xfrm>
          <a:prstGeom prst="rect">
            <a:avLst/>
          </a:prstGeom>
          <a:ln w="0">
            <a:noFill/>
          </a:ln>
        </p:spPr>
      </p:pic>
      <p:sp>
        <p:nvSpPr>
          <p:cNvPr id="176" name="TextovéPole 8"/>
          <p:cNvSpPr/>
          <p:nvPr/>
        </p:nvSpPr>
        <p:spPr>
          <a:xfrm>
            <a:off x="498600" y="5452920"/>
            <a:ext cx="80769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Tento workshop je pořádán se státní podporou Technologické agentury ČR v rámci Programu ÉTA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ovéPole 8"/>
          <p:cNvSpPr/>
          <p:nvPr/>
        </p:nvSpPr>
        <p:spPr>
          <a:xfrm>
            <a:off x="1852560" y="106200"/>
            <a:ext cx="842004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ffffff"/>
                </a:solidFill>
                <a:latin typeface="Arial"/>
                <a:ea typeface="Arial"/>
              </a:rPr>
              <a:t>Název akce, místo, datu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ovéPole 2"/>
          <p:cNvSpPr/>
          <p:nvPr/>
        </p:nvSpPr>
        <p:spPr>
          <a:xfrm>
            <a:off x="468360" y="484200"/>
            <a:ext cx="815184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7dc1"/>
                </a:solidFill>
                <a:latin typeface="Myriad Pro"/>
                <a:ea typeface="Arial"/>
              </a:rPr>
              <a:t>C. Shrnut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extovéPole 1"/>
          <p:cNvSpPr/>
          <p:nvPr/>
        </p:nvSpPr>
        <p:spPr>
          <a:xfrm>
            <a:off x="446040" y="1130400"/>
            <a:ext cx="6945480" cy="43628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Naplnění cílů Strategie BESIP měst – plnění AP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Zapojení kompetentních a zainteresovaných subjektů do plnění AP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ysvětlení důležitosti a smyslu aktivit v AP těmto subjektů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Důležitost systémového vzdělávání – oblast dopravní výchov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yužití dostupných již zpracovaných informací a výsledků kampaní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Získaní finančních prostředků na realizaci aktivi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Obrázek 6" descr=""/>
          <p:cNvPicPr/>
          <p:nvPr/>
        </p:nvPicPr>
        <p:blipFill>
          <a:blip r:embed="rId1"/>
          <a:srcRect l="0" t="0" r="0" b="63781"/>
          <a:stretch/>
        </p:blipFill>
        <p:spPr>
          <a:xfrm>
            <a:off x="7535880" y="1989000"/>
            <a:ext cx="4454640" cy="22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Nadpis 1"/>
          <p:cNvSpPr/>
          <p:nvPr/>
        </p:nvSpPr>
        <p:spPr>
          <a:xfrm>
            <a:off x="1992240" y="2846520"/>
            <a:ext cx="799164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4c85"/>
                </a:solidFill>
                <a:latin typeface="Myriad Pro"/>
                <a:ea typeface="Arial"/>
              </a:rPr>
              <a:t>Děkuji Vám za pozorno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ovéPole 6"/>
          <p:cNvSpPr/>
          <p:nvPr/>
        </p:nvSpPr>
        <p:spPr>
          <a:xfrm>
            <a:off x="318960" y="3879720"/>
            <a:ext cx="791532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7dc1"/>
                </a:solidFill>
                <a:latin typeface="Myriad Pro"/>
                <a:ea typeface="Arial"/>
              </a:rPr>
              <a:t>Alena Daňkov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84c4c"/>
                </a:solidFill>
                <a:latin typeface="Myriad Pro"/>
                <a:ea typeface="Arial"/>
              </a:rPr>
              <a:t>alena.dankova@cdv.cz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84c4c"/>
                </a:solidFill>
                <a:latin typeface="Myriad Pro"/>
                <a:ea typeface="Arial"/>
              </a:rPr>
              <a:t>telefon: +420 602 363 84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Obdélník 7"/>
          <p:cNvSpPr/>
          <p:nvPr/>
        </p:nvSpPr>
        <p:spPr>
          <a:xfrm>
            <a:off x="318960" y="5373720"/>
            <a:ext cx="381024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484c4c"/>
                </a:solidFill>
                <a:latin typeface="Myriad Pro"/>
                <a:ea typeface="Arial"/>
              </a:rPr>
              <a:t>Centrum dopravního výzkumu, v. v. i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84c4c"/>
                </a:solidFill>
                <a:latin typeface="Myriad Pro"/>
                <a:ea typeface="Arial"/>
              </a:rPr>
              <a:t>Líšeňská 33a, 636 00  Brn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84c4c"/>
                </a:solidFill>
                <a:latin typeface="Myriad Pro"/>
                <a:ea typeface="Arial"/>
              </a:rPr>
              <a:t>www.cdv.cz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Obrázek 8" descr=""/>
          <p:cNvPicPr/>
          <p:nvPr/>
        </p:nvPicPr>
        <p:blipFill>
          <a:blip r:embed="rId1"/>
          <a:stretch/>
        </p:blipFill>
        <p:spPr>
          <a:xfrm>
            <a:off x="241200" y="403200"/>
            <a:ext cx="3345120" cy="865080"/>
          </a:xfrm>
          <a:prstGeom prst="rect">
            <a:avLst/>
          </a:prstGeom>
          <a:ln w="0">
            <a:noFill/>
          </a:ln>
        </p:spPr>
      </p:pic>
      <p:pic>
        <p:nvPicPr>
          <p:cNvPr id="226" name="Obrázek 1" descr=""/>
          <p:cNvPicPr/>
          <p:nvPr/>
        </p:nvPicPr>
        <p:blipFill>
          <a:blip r:embed="rId2"/>
          <a:stretch/>
        </p:blipFill>
        <p:spPr>
          <a:xfrm>
            <a:off x="10848960" y="333360"/>
            <a:ext cx="934920" cy="934920"/>
          </a:xfrm>
          <a:prstGeom prst="rect">
            <a:avLst/>
          </a:prstGeom>
          <a:ln w="0">
            <a:noFill/>
          </a:ln>
        </p:spPr>
      </p:pic>
      <p:sp>
        <p:nvSpPr>
          <p:cNvPr id="227" name="TextovéPole 8"/>
          <p:cNvSpPr/>
          <p:nvPr/>
        </p:nvSpPr>
        <p:spPr>
          <a:xfrm>
            <a:off x="1992240" y="1413000"/>
            <a:ext cx="791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595959"/>
                </a:solidFill>
                <a:latin typeface="Calibri"/>
              </a:rPr>
              <a:t>Tento workshop je pořádán se státní podporou Technologické agentury ČR v rámci Programu ÉTA, projektu Strategické plánování bezpečnosti silničního provozu ve městech a jeho zavádění do praxe (TL02000298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ovéPole 8"/>
          <p:cNvSpPr/>
          <p:nvPr/>
        </p:nvSpPr>
        <p:spPr>
          <a:xfrm>
            <a:off x="1852560" y="106200"/>
            <a:ext cx="842004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ffffff"/>
                </a:solidFill>
                <a:latin typeface="Arial"/>
                <a:ea typeface="Arial"/>
              </a:rPr>
              <a:t>Název akce, místo, datu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ovéPole 2"/>
          <p:cNvSpPr/>
          <p:nvPr/>
        </p:nvSpPr>
        <p:spPr>
          <a:xfrm>
            <a:off x="550800" y="476280"/>
            <a:ext cx="1164132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a79bd"/>
                </a:solidFill>
                <a:latin typeface="Myriad Pro"/>
                <a:ea typeface="Arial"/>
              </a:rPr>
              <a:t>OPATŘENÍ SE ZAMĚŘENÍM NA ÚČASTNÍKY SILNIČNÍHO PROVOZ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ovéPole 2"/>
          <p:cNvSpPr/>
          <p:nvPr/>
        </p:nvSpPr>
        <p:spPr>
          <a:xfrm>
            <a:off x="509760" y="2050920"/>
            <a:ext cx="7704000" cy="31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Myriad Pro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Myriad Pro"/>
                <a:ea typeface="Arial"/>
              </a:rPr>
              <a:t>Účastníci silničního provozu – jeden ze strategických pilířů plnění AP Strategie BESIP 2021-203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Myriad Pro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Myriad Pro"/>
                <a:ea typeface="Arial"/>
              </a:rPr>
              <a:t>Zranitelní účastníci – děti, senioři, chodci, cyklisté, motocyklist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Myriad Pro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Myriad Pro"/>
                <a:ea typeface="Arial"/>
              </a:rPr>
              <a:t>Realizace preventivních a osvětových aktivi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Myriad Pro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Myriad Pro"/>
                <a:ea typeface="Arial"/>
              </a:rPr>
              <a:t>Zapojení interesovaných subjektů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Myriad Pro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Myriad Pro"/>
                <a:ea typeface="Arial"/>
              </a:rPr>
              <a:t>Financování aktivi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f3742e"/>
              </a:buClr>
              <a:buFont typeface="Myriad Pro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3742e"/>
                </a:solidFill>
                <a:latin typeface="Myriad Pro"/>
                <a:ea typeface="Arial"/>
              </a:rPr>
              <a:t>Důležitost systémového vzdělávání 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Obrázek 2" descr=""/>
          <p:cNvPicPr/>
          <p:nvPr/>
        </p:nvPicPr>
        <p:blipFill>
          <a:blip r:embed="rId1"/>
          <a:stretch/>
        </p:blipFill>
        <p:spPr>
          <a:xfrm>
            <a:off x="8183520" y="1341360"/>
            <a:ext cx="2959200" cy="4010040"/>
          </a:xfrm>
          <a:prstGeom prst="rect">
            <a:avLst/>
          </a:prstGeom>
          <a:ln w="0">
            <a:noFill/>
          </a:ln>
        </p:spPr>
      </p:pic>
      <p:sp>
        <p:nvSpPr>
          <p:cNvPr id="181" name="TextovéPole 9"/>
          <p:cNvSpPr/>
          <p:nvPr/>
        </p:nvSpPr>
        <p:spPr>
          <a:xfrm>
            <a:off x="846000" y="1341360"/>
            <a:ext cx="6970680" cy="3682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Myriad Pro"/>
              </a:rPr>
              <a:t>NAPLNĚNÍ CÍLŮ STRATEGIE BESIP MĚST – REALIZACE A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ovéPole 8"/>
          <p:cNvSpPr/>
          <p:nvPr/>
        </p:nvSpPr>
        <p:spPr>
          <a:xfrm>
            <a:off x="1852560" y="106200"/>
            <a:ext cx="842004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ffffff"/>
                </a:solidFill>
                <a:latin typeface="Arial"/>
                <a:ea typeface="Arial"/>
              </a:rPr>
              <a:t>Název akce, místo, datu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ovéPole 2"/>
          <p:cNvSpPr/>
          <p:nvPr/>
        </p:nvSpPr>
        <p:spPr>
          <a:xfrm>
            <a:off x="839880" y="620640"/>
            <a:ext cx="815184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7dc1"/>
                </a:solidFill>
                <a:latin typeface="Myriad Pro"/>
                <a:ea typeface="Arial"/>
              </a:rPr>
              <a:t>A. Realizace dopravní výchov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ovéPole 1"/>
          <p:cNvSpPr/>
          <p:nvPr/>
        </p:nvSpPr>
        <p:spPr>
          <a:xfrm>
            <a:off x="1703520" y="1292400"/>
            <a:ext cx="4105080" cy="6426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ačlenění DV do vzdělávání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ystémové vzdělávání od MŠ až po V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ovéPole 2"/>
          <p:cNvSpPr/>
          <p:nvPr/>
        </p:nvSpPr>
        <p:spPr>
          <a:xfrm>
            <a:off x="839880" y="2103480"/>
            <a:ext cx="7127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Předškolní vzdělává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- Výuka DV v MŠ – oblast bezpečného pohybu dětí, základní orientace v provoz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ákladní vzdělává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ýuka DV v ZŠ (1. a 2. stupeň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- Praktická výuka na dopravních hřištích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zdělávání na úrovni středních škol a gymnázi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5760" indent="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- Oblast získání „prvního řidičského průkazu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zdělávání na úrovni vysokých ško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5760" indent="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- Vzdělávání budoucích pedagogů (oblast bezpečného pohybu dětí a organizovaného útvaru chodců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Obrázek 6" descr=""/>
          <p:cNvPicPr/>
          <p:nvPr/>
        </p:nvPicPr>
        <p:blipFill>
          <a:blip r:embed="rId1"/>
          <a:stretch/>
        </p:blipFill>
        <p:spPr>
          <a:xfrm>
            <a:off x="7680240" y="595440"/>
            <a:ext cx="2035440" cy="3139920"/>
          </a:xfrm>
          <a:prstGeom prst="rect">
            <a:avLst/>
          </a:prstGeom>
          <a:ln w="0">
            <a:noFill/>
          </a:ln>
        </p:spPr>
      </p:pic>
      <p:pic>
        <p:nvPicPr>
          <p:cNvPr id="187" name="Obrázek 8" descr=""/>
          <p:cNvPicPr/>
          <p:nvPr/>
        </p:nvPicPr>
        <p:blipFill>
          <a:blip r:embed="rId2"/>
          <a:stretch/>
        </p:blipFill>
        <p:spPr>
          <a:xfrm>
            <a:off x="10056960" y="644400"/>
            <a:ext cx="1974600" cy="3090960"/>
          </a:xfrm>
          <a:prstGeom prst="rect">
            <a:avLst/>
          </a:prstGeom>
          <a:ln w="0">
            <a:noFill/>
          </a:ln>
        </p:spPr>
      </p:pic>
      <p:pic>
        <p:nvPicPr>
          <p:cNvPr id="188" name="Obrázek 10" descr=""/>
          <p:cNvPicPr/>
          <p:nvPr/>
        </p:nvPicPr>
        <p:blipFill>
          <a:blip r:embed="rId3"/>
          <a:stretch/>
        </p:blipFill>
        <p:spPr>
          <a:xfrm>
            <a:off x="8350200" y="3843360"/>
            <a:ext cx="303048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ovéPole 8"/>
          <p:cNvSpPr/>
          <p:nvPr/>
        </p:nvSpPr>
        <p:spPr>
          <a:xfrm>
            <a:off x="1852560" y="106200"/>
            <a:ext cx="842004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ffffff"/>
                </a:solidFill>
                <a:latin typeface="Arial"/>
                <a:ea typeface="Arial"/>
              </a:rPr>
              <a:t>Název akce, místo, datu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ovéPole 2"/>
          <p:cNvSpPr/>
          <p:nvPr/>
        </p:nvSpPr>
        <p:spPr>
          <a:xfrm>
            <a:off x="704880" y="355680"/>
            <a:ext cx="815184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7dc1"/>
                </a:solidFill>
                <a:latin typeface="Myriad Pro"/>
                <a:ea typeface="Arial"/>
              </a:rPr>
              <a:t>A. Realizace dopravní výchov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Obrázek 5" descr=""/>
          <p:cNvPicPr/>
          <p:nvPr/>
        </p:nvPicPr>
        <p:blipFill>
          <a:blip r:embed="rId1"/>
          <a:stretch/>
        </p:blipFill>
        <p:spPr>
          <a:xfrm>
            <a:off x="3911760" y="2924280"/>
            <a:ext cx="2008080" cy="689040"/>
          </a:xfrm>
          <a:prstGeom prst="rect">
            <a:avLst/>
          </a:prstGeom>
          <a:ln w="0">
            <a:noFill/>
          </a:ln>
        </p:spPr>
      </p:pic>
      <p:sp>
        <p:nvSpPr>
          <p:cNvPr id="192" name="TextovéPole 1"/>
          <p:cNvSpPr/>
          <p:nvPr/>
        </p:nvSpPr>
        <p:spPr>
          <a:xfrm>
            <a:off x="766800" y="944640"/>
            <a:ext cx="10298160" cy="50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3742e"/>
                </a:solidFill>
                <a:latin typeface="Calibri"/>
              </a:rPr>
              <a:t>Možné materiály k využití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Calibri"/>
              </a:rPr>
              <a:t>Metodika dopravní výchovy pro mateřské ško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Calibri"/>
              </a:rPr>
              <a:t>Pracovní listy pro mateřské školy zpracované v rámci projektu „Markétina dopravní výchova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Calibri"/>
              </a:rPr>
              <a:t>Brožura – Organizovaná skupina dětí, pohyb v dopravním prostřed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Calibri"/>
              </a:rPr>
              <a:t>Dopravní výchova pro 1. stupeň ZŠ, Učitelská licence (Nakladatelství Fraus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Calibri"/>
              </a:rPr>
              <a:t>Výukový materiál DV pro SŠ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Calibri"/>
              </a:rPr>
              <a:t>Názorné videospo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374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www.detivdoprave.cz</a:t>
            </a:r>
            <a:r>
              <a:rPr b="1" lang="cs-CZ" sz="2000" spc="-1" strike="noStrike">
                <a:solidFill>
                  <a:srgbClr val="f374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3742e"/>
                </a:solidFill>
                <a:latin typeface="Arial"/>
              </a:rPr>
              <a:t>www.ibesip.cz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3742e"/>
                </a:solidFill>
                <a:latin typeface="Arial"/>
              </a:rPr>
              <a:t>www.dopravnivychova.c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Obrázek 3" descr=""/>
          <p:cNvPicPr/>
          <p:nvPr/>
        </p:nvPicPr>
        <p:blipFill>
          <a:blip r:embed="rId3"/>
          <a:stretch/>
        </p:blipFill>
        <p:spPr>
          <a:xfrm>
            <a:off x="4308480" y="5210280"/>
            <a:ext cx="2448000" cy="657000"/>
          </a:xfrm>
          <a:prstGeom prst="rect">
            <a:avLst/>
          </a:prstGeom>
          <a:ln w="0">
            <a:noFill/>
          </a:ln>
        </p:spPr>
      </p:pic>
      <p:pic>
        <p:nvPicPr>
          <p:cNvPr id="194" name="Obrázek 6" descr=""/>
          <p:cNvPicPr/>
          <p:nvPr/>
        </p:nvPicPr>
        <p:blipFill>
          <a:blip r:embed="rId4"/>
          <a:stretch/>
        </p:blipFill>
        <p:spPr>
          <a:xfrm>
            <a:off x="4917960" y="4341960"/>
            <a:ext cx="2390760" cy="352440"/>
          </a:xfrm>
          <a:prstGeom prst="rect">
            <a:avLst/>
          </a:prstGeom>
          <a:ln w="0">
            <a:noFill/>
          </a:ln>
        </p:spPr>
      </p:pic>
      <p:pic>
        <p:nvPicPr>
          <p:cNvPr id="195" name="Obrázek 8" descr=""/>
          <p:cNvPicPr/>
          <p:nvPr/>
        </p:nvPicPr>
        <p:blipFill>
          <a:blip r:embed="rId5"/>
          <a:stretch/>
        </p:blipFill>
        <p:spPr>
          <a:xfrm>
            <a:off x="3867120" y="4098960"/>
            <a:ext cx="94464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ovéPole 8"/>
          <p:cNvSpPr/>
          <p:nvPr/>
        </p:nvSpPr>
        <p:spPr>
          <a:xfrm>
            <a:off x="1852560" y="106200"/>
            <a:ext cx="842004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ffffff"/>
                </a:solidFill>
                <a:latin typeface="Arial"/>
                <a:ea typeface="Arial"/>
              </a:rPr>
              <a:t>Název akce, místo, datu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ovéPole 2"/>
          <p:cNvSpPr/>
          <p:nvPr/>
        </p:nvSpPr>
        <p:spPr>
          <a:xfrm>
            <a:off x="479520" y="549360"/>
            <a:ext cx="10369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7dc1"/>
                </a:solidFill>
                <a:latin typeface="Myriad Pro"/>
                <a:ea typeface="Arial"/>
              </a:rPr>
              <a:t>B. Programy osvěty a prev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7dc1"/>
                </a:solidFill>
                <a:latin typeface="Myriad Pro"/>
                <a:ea typeface="Arial"/>
              </a:rPr>
              <a:t>    </a:t>
            </a:r>
            <a:r>
              <a:rPr b="1" lang="cs-CZ" sz="2800" spc="-1" strike="noStrike">
                <a:solidFill>
                  <a:srgbClr val="297dc1"/>
                </a:solidFill>
                <a:latin typeface="Myriad Pro"/>
                <a:ea typeface="Arial"/>
              </a:rPr>
              <a:t>Ministerstvo dopravy – SO BESIP    </a:t>
            </a:r>
            <a:r>
              <a:rPr b="1" lang="cs-CZ" sz="2800" spc="-1" strike="noStrike">
                <a:solidFill>
                  <a:srgbClr val="f3742e"/>
                </a:solidFill>
                <a:latin typeface="Myriad Pro"/>
                <a:ea typeface="Arial"/>
              </a:rPr>
              <a:t>https://www.ibesip.cz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Obrázek 4" descr=""/>
          <p:cNvPicPr/>
          <p:nvPr/>
        </p:nvPicPr>
        <p:blipFill>
          <a:blip r:embed="rId1"/>
          <a:stretch/>
        </p:blipFill>
        <p:spPr>
          <a:xfrm>
            <a:off x="10368000" y="250920"/>
            <a:ext cx="1008000" cy="863640"/>
          </a:xfrm>
          <a:prstGeom prst="rect">
            <a:avLst/>
          </a:prstGeom>
          <a:ln w="0">
            <a:noFill/>
          </a:ln>
        </p:spPr>
      </p:pic>
      <p:sp>
        <p:nvSpPr>
          <p:cNvPr id="199" name="TextovéPole 1"/>
          <p:cNvSpPr/>
          <p:nvPr/>
        </p:nvSpPr>
        <p:spPr>
          <a:xfrm>
            <a:off x="638280" y="1886040"/>
            <a:ext cx="10226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3742e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3742e"/>
                </a:solidFill>
                <a:latin typeface="Calibri"/>
              </a:rPr>
              <a:t>Realizace řady kampaní a preventivních akc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13 minut – Zpomal, dokud není pozd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Nepozornost zabíj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Nenech se ovlivn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Agresivita zabíj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f3742e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3742e"/>
                </a:solidFill>
                <a:latin typeface="Calibri"/>
              </a:rPr>
              <a:t>Soutěž mladých cyklist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Každoročně, pro žáky 10 – 16 l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f3742e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3742e"/>
                </a:solidFill>
                <a:latin typeface="Calibri"/>
              </a:rPr>
              <a:t>Krajští koordinátoři BESI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Realizace dopravně-bezpečnostních akcí (ve školách, na dopravních hřištích, atd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Distribuce materiálů DV (metodické materiály, reflexní prvky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Obrázek 3" descr=""/>
          <p:cNvPicPr/>
          <p:nvPr/>
        </p:nvPicPr>
        <p:blipFill>
          <a:blip r:embed="rId2"/>
          <a:stretch/>
        </p:blipFill>
        <p:spPr>
          <a:xfrm>
            <a:off x="5734080" y="1947960"/>
            <a:ext cx="3097080" cy="1251000"/>
          </a:xfrm>
          <a:prstGeom prst="rect">
            <a:avLst/>
          </a:prstGeom>
          <a:ln w="0">
            <a:noFill/>
          </a:ln>
        </p:spPr>
      </p:pic>
      <p:pic>
        <p:nvPicPr>
          <p:cNvPr id="201" name="Obrázek 7" descr=""/>
          <p:cNvPicPr/>
          <p:nvPr/>
        </p:nvPicPr>
        <p:blipFill>
          <a:blip r:embed="rId3"/>
          <a:stretch/>
        </p:blipFill>
        <p:spPr>
          <a:xfrm>
            <a:off x="7751880" y="2509920"/>
            <a:ext cx="3504960" cy="1181160"/>
          </a:xfrm>
          <a:prstGeom prst="rect">
            <a:avLst/>
          </a:prstGeom>
          <a:ln w="0">
            <a:noFill/>
          </a:ln>
        </p:spPr>
      </p:pic>
      <p:pic>
        <p:nvPicPr>
          <p:cNvPr id="202" name="Obrázek 9" descr=""/>
          <p:cNvPicPr/>
          <p:nvPr/>
        </p:nvPicPr>
        <p:blipFill>
          <a:blip r:embed="rId4"/>
          <a:stretch/>
        </p:blipFill>
        <p:spPr>
          <a:xfrm>
            <a:off x="7012080" y="3757680"/>
            <a:ext cx="3639960" cy="8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ovéPole 8"/>
          <p:cNvSpPr/>
          <p:nvPr/>
        </p:nvSpPr>
        <p:spPr>
          <a:xfrm>
            <a:off x="1852560" y="106200"/>
            <a:ext cx="842004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ffffff"/>
                </a:solidFill>
                <a:latin typeface="Arial"/>
                <a:ea typeface="Arial"/>
              </a:rPr>
              <a:t>Název akce, místo, datu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ovéPole 2"/>
          <p:cNvSpPr/>
          <p:nvPr/>
        </p:nvSpPr>
        <p:spPr>
          <a:xfrm>
            <a:off x="461880" y="485640"/>
            <a:ext cx="10064880" cy="14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7dc1"/>
                </a:solidFill>
                <a:latin typeface="Myriad Pro"/>
                <a:ea typeface="Arial"/>
              </a:rPr>
              <a:t>B. Programy osvěty a prev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7dc1"/>
                </a:solidFill>
                <a:latin typeface="Myriad Pro"/>
                <a:ea typeface="Arial"/>
              </a:rPr>
              <a:t>Fond zábrany škod  </a:t>
            </a:r>
            <a:r>
              <a:rPr b="0" lang="cs-CZ" sz="2800" spc="-1" strike="noStrike" u="sng">
                <a:solidFill>
                  <a:srgbClr val="0000ff"/>
                </a:solidFill>
                <a:uFillTx/>
                <a:latin typeface="Myriad Pro"/>
                <a:ea typeface="Arial"/>
                <a:hlinkClick r:id="rId1"/>
              </a:rPr>
              <a:t>https://www.fondzabranyskod.cz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ovéPole 1"/>
          <p:cNvSpPr/>
          <p:nvPr/>
        </p:nvSpPr>
        <p:spPr>
          <a:xfrm>
            <a:off x="1055520" y="1503360"/>
            <a:ext cx="10225080" cy="41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Calibri"/>
              </a:rPr>
              <a:t>Markétina dopravní výchova, </a:t>
            </a:r>
            <a:r>
              <a:rPr b="0" lang="cs-CZ" sz="1800" spc="-1" strike="noStrike" u="sng">
                <a:solidFill>
                  <a:srgbClr val="0000ff"/>
                </a:solidFill>
                <a:uFillTx/>
                <a:latin typeface="Arial"/>
                <a:ea typeface="Calibri"/>
                <a:hlinkClick r:id="rId2"/>
              </a:rPr>
              <a:t>https://www.dopravnivychova.c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Calibri"/>
              </a:rPr>
              <a:t>Dětská dopravní policie, </a:t>
            </a:r>
            <a:r>
              <a:rPr b="0" lang="cs-CZ" sz="18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s://decko.ceskatelevize.cz/detska-dopravni-polic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Calibri"/>
              </a:rPr>
              <a:t>Nehodou to začíná, </a:t>
            </a:r>
            <a:r>
              <a:rPr b="0" lang="cs-CZ" sz="18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s://www.nehodoutozacina.c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Calibri"/>
              </a:rPr>
              <a:t>Senior bez nehod, </a:t>
            </a:r>
            <a:r>
              <a:rPr b="0" lang="cs-CZ" sz="18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s://seniorbeznehod.c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Calibri"/>
              </a:rPr>
              <a:t>Agresivita zabíjí, </a:t>
            </a:r>
            <a:r>
              <a:rPr b="0" lang="cs-CZ" sz="18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s://agresivitazabiji.c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Calibri"/>
              </a:rPr>
              <a:t>Nepozornost zabíjí, </a:t>
            </a:r>
            <a:r>
              <a:rPr b="0" lang="cs-CZ" sz="18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s://www.nepozornostzabiji.c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Calibri"/>
              </a:rPr>
              <a:t>Jedu s dobou, </a:t>
            </a:r>
            <a:r>
              <a:rPr b="0" lang="cs-CZ" sz="18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s://www.jedusdobou.c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Calibri"/>
              </a:rPr>
              <a:t>Učme se přežít, </a:t>
            </a:r>
            <a:r>
              <a:rPr b="0" lang="cs-CZ" sz="18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s://www.ucmeseprezit.c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Calibri"/>
              </a:rPr>
              <a:t>Na kole jen s přilbou, </a:t>
            </a:r>
            <a:r>
              <a:rPr b="0" lang="cs-CZ" sz="18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s://www.nakolejensprilbou.c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Obrázek 5" descr=""/>
          <p:cNvPicPr/>
          <p:nvPr/>
        </p:nvPicPr>
        <p:blipFill>
          <a:blip r:embed="rId3"/>
          <a:stretch/>
        </p:blipFill>
        <p:spPr>
          <a:xfrm>
            <a:off x="9624960" y="566640"/>
            <a:ext cx="21049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ovéPole 8"/>
          <p:cNvSpPr/>
          <p:nvPr/>
        </p:nvSpPr>
        <p:spPr>
          <a:xfrm>
            <a:off x="1852560" y="106200"/>
            <a:ext cx="842004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ffffff"/>
                </a:solidFill>
                <a:latin typeface="Arial"/>
                <a:ea typeface="Arial"/>
              </a:rPr>
              <a:t>Název akce, místo, datu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ovéPole 1"/>
          <p:cNvSpPr/>
          <p:nvPr/>
        </p:nvSpPr>
        <p:spPr>
          <a:xfrm>
            <a:off x="766800" y="1008000"/>
            <a:ext cx="9361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97dc1"/>
                </a:solidFill>
                <a:latin typeface="Myriad Pro"/>
              </a:rPr>
              <a:t>D. Krajské úřad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rajské školské odbory – školní metodik prevence – informace o aktivitách v daném kraj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Webové stránky jednotlivých kraj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97dc1"/>
                </a:solidFill>
                <a:latin typeface="Myriad Pro"/>
              </a:rPr>
              <a:t>E. Komise BESIP mě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řízení Komise BESIP měst – koordinace dopravně-bezpečnostních aktiv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97dc1"/>
                </a:solidFill>
                <a:latin typeface="Myriad Pro"/>
              </a:rPr>
              <a:t>F. Městská polic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ohled nad dodržováním pravidel sil. provozu (v okolí škol, rychlost, atd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místění a správa rad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dukativní aktiv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ojení do DV (dopravní hřiště, atd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97dc1"/>
                </a:solidFill>
                <a:latin typeface="Myriad Pro"/>
              </a:rPr>
              <a:t>G. Dobrovolné spolk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omy dětí a mládež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rtovní klub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utoško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ervený kří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ovéPole 2"/>
          <p:cNvSpPr/>
          <p:nvPr/>
        </p:nvSpPr>
        <p:spPr>
          <a:xfrm>
            <a:off x="550800" y="338040"/>
            <a:ext cx="1036944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7dc1"/>
                </a:solidFill>
                <a:latin typeface="Myriad Pro"/>
                <a:ea typeface="Arial"/>
              </a:rPr>
              <a:t>B. Programy osvěty a prev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7dc1"/>
                </a:solidFill>
                <a:latin typeface="Myriad Pro"/>
                <a:ea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ovéPole 8"/>
          <p:cNvSpPr/>
          <p:nvPr/>
        </p:nvSpPr>
        <p:spPr>
          <a:xfrm>
            <a:off x="1852560" y="106200"/>
            <a:ext cx="842004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ffffff"/>
                </a:solidFill>
                <a:latin typeface="Arial"/>
                <a:ea typeface="Arial"/>
              </a:rPr>
              <a:t>Název akce, místo, datu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ovéPole 2"/>
          <p:cNvSpPr/>
          <p:nvPr/>
        </p:nvSpPr>
        <p:spPr>
          <a:xfrm>
            <a:off x="760320" y="476280"/>
            <a:ext cx="815184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7dc1"/>
                </a:solidFill>
                <a:latin typeface="Myriad Pro"/>
                <a:ea typeface="Arial"/>
              </a:rPr>
              <a:t>Financování aktiv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ovéPole 1"/>
          <p:cNvSpPr/>
          <p:nvPr/>
        </p:nvSpPr>
        <p:spPr>
          <a:xfrm>
            <a:off x="760320" y="1268280"/>
            <a:ext cx="92552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70c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70c0"/>
                </a:solidFill>
                <a:latin typeface="Calibri"/>
              </a:rPr>
              <a:t>Dotační tituly MŠM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https://www.msmt.cz/dotacni-program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  <a:ea typeface="Calibri"/>
              </a:rPr>
              <a:t>Oblast vzdělávání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70c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70c0"/>
                </a:solidFill>
                <a:latin typeface="Calibri"/>
              </a:rPr>
              <a:t>Krajské dotační program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Preventivní, informační, vzdělávací a volnočasové aktiv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Zranitelní účastníc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Dopravní hřišt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Realizace kol soutěže mladých cyklist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Max. výše dotace cca 50%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70c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70c0"/>
                </a:solidFill>
                <a:latin typeface="Calibri"/>
              </a:rPr>
              <a:t>FZ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Každý rok možné podat žádosti na realizaci projektů zaměřených na naplnění cílů Strategie BESIP 2021-203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Picture 4" descr="finance"/>
          <p:cNvPicPr/>
          <p:nvPr/>
        </p:nvPicPr>
        <p:blipFill>
          <a:blip r:embed="rId1"/>
          <a:stretch/>
        </p:blipFill>
        <p:spPr>
          <a:xfrm>
            <a:off x="8543880" y="455760"/>
            <a:ext cx="2487600" cy="183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ovéPole 8"/>
          <p:cNvSpPr/>
          <p:nvPr/>
        </p:nvSpPr>
        <p:spPr>
          <a:xfrm>
            <a:off x="1852560" y="106200"/>
            <a:ext cx="842004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ffffff"/>
                </a:solidFill>
                <a:latin typeface="Arial"/>
                <a:ea typeface="Arial"/>
              </a:rPr>
              <a:t>Název akce, místo, datu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ovéPole 2"/>
          <p:cNvSpPr/>
          <p:nvPr/>
        </p:nvSpPr>
        <p:spPr>
          <a:xfrm>
            <a:off x="479520" y="690480"/>
            <a:ext cx="815184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7dc1"/>
                </a:solidFill>
                <a:latin typeface="Myriad Pro"/>
                <a:ea typeface="Arial"/>
              </a:rPr>
              <a:t>B. Financování aktiv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extovéPole 4"/>
          <p:cNvSpPr/>
          <p:nvPr/>
        </p:nvSpPr>
        <p:spPr>
          <a:xfrm>
            <a:off x="695160" y="1413000"/>
            <a:ext cx="6094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70c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70c0"/>
                </a:solidFill>
                <a:latin typeface="Calibri"/>
              </a:rPr>
              <a:t>Rozpočty měst a obc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Přímé i nepřímé financová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Dofinancování dotačních projekt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70c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70c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70c0"/>
                </a:solidFill>
                <a:latin typeface="Calibri"/>
              </a:rPr>
              <a:t>Soukromý sektor, pojišťovn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Finanční, materiální, personální podpo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Např. zapůjčení prostor, polygonu, personální podpora při konání akc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ČESMAD BOHEMIA, ÚAMK, ŠKODA AUTO ČR, at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4" descr="finance"/>
          <p:cNvPicPr/>
          <p:nvPr/>
        </p:nvPicPr>
        <p:blipFill>
          <a:blip r:embed="rId1"/>
          <a:stretch/>
        </p:blipFill>
        <p:spPr>
          <a:xfrm>
            <a:off x="8399520" y="679320"/>
            <a:ext cx="2487600" cy="18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0T06:07:54Z</dcterms:created>
  <dc:creator>Paulas</dc:creator>
  <dc:description/>
  <dc:language>en-US</dc:language>
  <cp:lastModifiedBy>Alena Daňková</cp:lastModifiedBy>
  <cp:lastPrinted>2016-01-19T14:43:33Z</cp:lastPrinted>
  <dcterms:modified xsi:type="dcterms:W3CDTF">2021-10-27T14:41:19Z</dcterms:modified>
  <cp:revision>255</cp:revision>
  <dc:subject/>
  <dc:title>Prezentace aplikace PowerPoint</dc:title>
</cp:coreProperties>
</file>